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01652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200240" y="70308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890388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4016520" y="890388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AD5C222-523E-4F19-9DFA-33B65A2C5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B96F343-5202-41DC-9CB0-1A35071F5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57320" y="4371480"/>
            <a:ext cx="67737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CFA14DC-3F7F-4FC1-A318-3A200AE5B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AD305B0-964E-4E4D-9699-E7A2CEE35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3D984F0-30C9-4FA2-966B-9E0B47768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B1E28EF-CCB5-4D5C-80C8-F6806BDEE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826-E253-47B5-8F65-60E703AC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47F1-D5FA-487A-82B1-E4EF60AE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711A-3E97-4019-A7B5-8DCC2F28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429-232F-45B1-88A2-25138CFE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C68A-E6D4-4190-B42B-E41C6B9C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BB09-4CB4-45F5-A130-F09CA4D6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FEB6-7B37-4E82-95AF-581AEC87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83CC-E477-4417-A0F5-788FA88C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F348-A54B-4E37-A0A6-3F3851A1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DCD0-3E78-4584-B448-9C3AF5AC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D520-2649-46D0-A698-1E3687BF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3E4-4EDA-47EB-8D89-557ACE93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1ED3-C8BF-4A95-9F27-6104C262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2707-A4B6-45DB-AAC5-93C94B4E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0743-2935-485A-8B50-7F0FB412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0CF1-AA88-4687-A9CC-39F309B8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A2EF-033B-4BBB-A477-17805F0D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DAA74-D8BE-4741-8300-74FB9E60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BA488-7F94-4EBE-A9E3-679B58EB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97C7D-25FF-40C2-9053-BCFA8C17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856D6-FAFC-4C0C-8AC6-0940FF1C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3668-9569-4C2C-98C0-B1D06482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B50-7C08-4B6D-A417-2E4C941E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779D3-DCAD-4A32-9AB5-728A42E5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29570-37F0-4BFB-B925-38FDC713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ECC5-EBBD-476E-A788-52BDA0DC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F6246-FF6C-4076-8681-0180CF7D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8D57E-56B0-42A6-8815-921BDA83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22F4-BA9C-4F5C-A3FF-BB366C89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BAC95-0F10-4788-B78F-C840EDCA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56148-C3CF-4A0A-BD6B-2AD73656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BAC89-1E42-4C8D-86E8-6907ADCF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8DC77-81C0-4B48-A4CA-1F7B88C7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0BC7-B5BF-41D4-A757-0679D00D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93D16-4BD3-4766-9E21-F8046240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EE5A2-5A53-46BC-833A-E47A6220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2716F-92A9-466A-80FC-1339C9BE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2A98C-B215-412C-9441-66ACA49C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16BB1-5DA3-4B55-9E92-610E0F77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C436D-684E-4D8F-BCE1-F92698F4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6C480-51FD-4367-8087-BF53F77E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52870-749C-4AF6-AF48-63A37A8B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18B2C-1BF6-4BC6-BB42-C59B6A90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8AD-45E8-4D48-85FA-5C255AAF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061-2895-4B7D-B078-471F3B77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5F6-005A-4339-B88F-36968E4A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37C-AD6A-45AA-96DF-1F8CDA3B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8FE-5454-45E6-A730-42B035C7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F0D6-81F9-4A2C-8ACE-AE68F04A1706}" type="slidenum">
              <a:rPr b="0" lang="en-US" sz="1200" spc="-1" strike="noStrike">
                <a:solidFill>
                  <a:srgbClr val="045c75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1D68-F964-4A13-83CB-E588903ADE76}" type="slidenum">
              <a:rPr b="0" lang="en-US" sz="1200" spc="-1" strike="noStrike">
                <a:solidFill>
                  <a:srgbClr val="d1eaee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A522-7BA9-4CD1-B49A-15021B97CC01}" type="slidenum">
              <a:rPr b="0" lang="en-US" sz="1200" spc="-1" strike="noStrike">
                <a:solidFill>
                  <a:srgbClr val="d1eaee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131D-9D98-4BE9-BB82-3AB2EA66806A}" type="slidenum">
              <a:rPr b="0" lang="en-US" sz="1200" spc="-1" strike="noStrike">
                <a:solidFill>
                  <a:srgbClr val="045c75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ction Research Presentation</a:t>
            </a:r>
            <a:br>
              <a:rPr sz="5400"/>
            </a:br>
            <a:r>
              <a:rPr b="1" lang="en-US" sz="5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How assisted reading</a:t>
            </a:r>
            <a:br>
              <a:rPr sz="5000"/>
            </a:br>
            <a:r>
              <a:rPr b="1" lang="en-US" sz="5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helps improve reading fluency and comprehension </a:t>
            </a:r>
            <a:br>
              <a:rPr sz="54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80880" y="373392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ana Samoylov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SE 7201T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2016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ar in Applied Theory and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I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4" name="Picture 6" descr="Image result for assisted reading helps improve reading fluency and comprehension"/>
          <p:cNvPicPr/>
          <p:nvPr/>
        </p:nvPicPr>
        <p:blipFill>
          <a:blip r:embed="rId1"/>
          <a:stretch/>
        </p:blipFill>
        <p:spPr>
          <a:xfrm>
            <a:off x="5359320" y="3886200"/>
            <a:ext cx="3556080" cy="266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28600" y="642600"/>
            <a:ext cx="8686800" cy="59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References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Barton-Arwood, S. M., Wehby, J. H., &amp; Falk, K. B. (2005). Reading instruction for elementary-age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tudents with emotional and behavioral disorders: academic and behavioral outcomes.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Exceptional  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Childr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7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7-27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Chang, A. C., &amp; Millett, S. (2015). Improving reading rates and comprehension through audio-assisted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extensive reading for beginner learners.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ys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5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91-102. doi:10.1016/j.system.2015.05.003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Dalton, B., &amp; Grisham, D. L. (2011). eVoc strategies: 10 ways to use technology to build vocabulary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Teac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6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5), 306-317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Dowhower, S. L. (1987). Effects of repeated reading on second-grade transitional readers' fluency and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comprehension.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Resear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389-406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Esteves, K. J., &amp; Whitten, E. (2011). Assisted reading with digital audiobooks for students with reading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disabilities.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Horiz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5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21-40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Falth, L., Gustafson, S., Tjus, T., Heimann, M., &amp; Svensson, I. (2013). Computer-assisted interventions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targeting reading skills of children with reading disabilities: A longitudinal study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Dyslexi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37-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53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Gibson, L., Cartledge, G., &amp; Keyes, S. E. (2011). A preliminary investigation of supplemental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computer-assisted reading instruction on the oral reading fluency and comprehension of first-grade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African American urban stud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Journal of Behavioral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4), 260-282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Hapstak, J., &amp; Tracey, D. H. (2007). Effects of assisted-repeated reading on students of varying reading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ability: A single-subject experimental research study.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Horiz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4), 315-33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Haupt, J. j. (2015). The use of a computer-based reading rate development program on pre-university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rmediate level ESL learners' reading speeds.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Matrix: An International Online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Journ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1-1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Hawkins, R. O., Marsicano, R., Schmitt, A. J., McCallum, E., &amp;Musti-Rao, S. (2015). Comparing the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efficiency of repeated reading and listening-while-reading to improve fluency and comprehension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Education and Treatment of Childr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49-70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Homan, S. P., &amp; Klesius, D. (1993). Effects of repeated readings and non-repetitive strategies on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tudents' fluency and comprehension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Journal of Educational Resear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8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2), 94-99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Hudson, R. F., Lane, H. B., &amp; Pullen, P. C. (2005). Reading fluency assessment and instruction: What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why, and how?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Reading Teac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5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8), 702-714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Izzo, M. V., Yurick, A., &amp; McArrell, B. (2009). Supported eText: Effects of text-to-speech on access an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achievement for high school students with disabiliti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Journal of Special Education Techn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3), 9-20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Kaşkaya, A. a. (2016). Improving reading fluency and reading comprehension with NIM-assiste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teaching: an activity research.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Education &amp; Science / EgitimVeBili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85), 281-297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Keyes, S. s., Cartledge, G., Gibson Jr., L., &amp; Robinson-Ervin, P. (2016). Programming for generalization of oral reading fluency using computer-assisted instruction and changing fluency criteria.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Education &amp; Treatment of Childr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2), 141-172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Koskinen, P. S., Blum, I. H., Bisson, S. A., Phillips, S. M., Creamer, T. S., &amp; Baker, T. K. (2000). Boo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access, shared reading, and audio models: the effects of supporting the literacy learning of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linguistically diverse students in school and at home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Journal of Educational Psych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9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23-36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Laitusis, C. C. (2010). Examining the impact of audio presentation on tests of reading comprehensio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Applied Measurement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2), 153-167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Larson, L. C. (2015). E-books and audiobooks: Extending the digital reading experience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Teac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6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2), 169-177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152280" y="380880"/>
            <a:ext cx="883944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asinski, T., &amp; Young, C. (2014). Assisted reading-a bridge from fluency to comprehension.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New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England Reading Association Journ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1-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asinski, T. (2004). Creating fluent readers.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Educational Leadershi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6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6), 46-51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aine, N. L., Lerkkanen, M., Ahonen, T., Tolvanen, A., &amp; Lyytinen, H. (2010). Predicting word-level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fluency outcomes in three contrastive groups: Remedial and computer-assisted remedial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intervention, and mainstream instruction.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Learning &amp; Individual Differenc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5), 402-414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aine, N. L., Lerkkanen, M., Ahonen, T., Tolvanen, A., &amp; Lyytinen, H. (2011). Computer-assisted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medial reading intervention for school beginners at risk for reading disability.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Child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develop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8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3), 1013-1028. doi:10.1111/j.1467-8624.2011.01580.x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tevens, R. J. (2006). Developing reading fluency: what does the research say?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Catalyst For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Chan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37-4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wain, K. D., Leader-Janssen, E. M., &amp; Conley, P. (2013). Effects of repeated reading and listening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assage preview on oral reading fluency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Improve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12-18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guchi, E., Gorsuch, G., Takayasu-Maass, M., &amp; Snipp, K. (2012). Assisted repeated reading with an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d-level Japanese EFL reader: A longitudinal diary study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In a Foreign Langu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30-55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Taguchi, E. t., Melhem, L. l., &amp; Kawaguchi, T. a. (2016). Assisted reading: A flexible approach to L2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fluency building.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Matrix: An International Online Journ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106-118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Therrien, W. J. (2004). Fluency and comprehension gains as a result of repeated reading a meta-   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analysis.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medial and special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4), 252-261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Torgesen, J. K., Wagner, R. K., Rashotte, C. A., Herron, J., &amp; Lindamood, P. (2010). Computer-assisted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instruction to prevent early reading difficulties in students at risk for dyslexia: Outcomes from two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instructional approaches.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Annals of dyslexi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6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40-56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Webb, S., &amp; Chang, A. C. (2012). Vocabulary learning through assisted and unassisted repeated reading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Canadian Modern Language Re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6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3), 267-290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able of Contents: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 of the Problem ……………………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3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Related Literature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 ……………………………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4-5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 ………………………..…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6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ists …………………………….…..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7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 of the Hypothesis ……………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8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nts (N) …………………………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9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(s) ……………………………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9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 …………………………………        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0-12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atement of Problem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52280" y="114264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lu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efining characteristic of good readers. Lack of fluency is a common characteristic of poor readers and a predictor of reading comprehension problem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udson, Lane, &amp; Pullen, 2005; Stevens, 2006; Kaşkaya, 2016; Taguchi, Melhem, &amp; Kawaguchi, 2016)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of different ages and reading levels, especially English Language Learners (ELL) and students with learning disabilities have problems with fluency and comprehens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rrien, 2004; Swain, Leader-Janssen, &amp; Conley, 2013)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fluency is an important academic skill, enabling students to acquire content knowledge needed for other subject area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ibson, Cartledge, &amp; Keyes, 2011; Rasinski, &amp; Young, 2014)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Review of Literature: 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228600" y="753480"/>
            <a:ext cx="883908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Pro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sinski (2014) emphasized that assisted reading was a promising approach that provided readers with powerful scaffolding, which empowered students to read faster and comprehend bette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Rasinski, 2014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guchi, Melhem, &amp; Kawaguchi, 2016; Hawkins, Marsicano, Schmitt, McCallum, &amp; Musti-Rao, 2015; Hapstak, &amp; Tracey, 2007)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assisted reading techniques can be used, such as repeated reading, audio-assisted reading, digital audio books, oral reading, partner reading, assisted close reading, et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alth, Gustafson, Tjus, Heimann, &amp; Svensson, 2013; Gibson, Cartledge, &amp; Keyes, 2011; Dalton, &amp; Grisham, 2011; Saine, Lerkkanen, Ahonen, Tolvanen, &amp; Lyytinen, 2011; Torgesen, Wagner, Rashotte, Herron, &amp; Lindamood, 2010)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zo,Yurick, and McArrell stressed that assistive technologies (audio books, computer programs, digital texts, translational supports, etc.) enhance reading outcomes for student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zzo et al., 2009; Barton-Arwood, Wehby, &amp; Falk, 2005; Laitusis, 2010; Esteves &amp; Whitten, 2011; Haupt, 2015; Saine, Lerkkanen, Ahonen, Tolvanen, &amp; Lyytinen, 2010 )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228600" y="781560"/>
            <a:ext cx="86868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Pros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. (continued)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 and Millett (2015) claimed that the audio-assisted reading showed high improvement in reading rates and comprehension in experimental grou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ang &amp; Millett, 2015; Koskinen, Blum, Bisson, Phillips, Creamer, &amp; Baker, 2000;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son, 2015 ).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rien (2004) researched this topic and concluded that the repeated reading was an evidenced-based strategy designed to increase reading fluency and comprehens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rrien, 2004; Homan, &amp; Klesius, 1993; Taguchi, Gorsuch, Takayasu-Maass, &amp; Snipp, 2012).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other study, Stevens (2006) concluded that high quantity and high quality practice in oral reading as the most effective technique for developing of all student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tevens, 2006; Hudson, Lane, &amp; Pullen, 2005; Rasinski, &amp; Young, 2014 )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0520" y="609480"/>
            <a:ext cx="8610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arly as in 1987, Dowhower already spoke about some limitations that need to be taken into consideration in such action research project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whower, 1987)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said that other variables may affect results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ersonal characteristics of student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whower, 1987 ; Webb, &amp; Chang, 2012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arning and physical disabilities of stud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size of a group and amount of time spent practicing readin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wain, Leader-Janssen, &amp; Conley, 2013; Webb, &amp; Chang, 2012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qualifications of teacher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eyes, Cartledge, Gibson, &amp; Robinson-Ervin, 2016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ther parallel interven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tle 5"/>
          <p:cNvSpPr/>
          <p:nvPr/>
        </p:nvSpPr>
        <p:spPr>
          <a:xfrm>
            <a:off x="533520" y="533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heorists  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380880" y="1016640"/>
            <a:ext cx="853452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Calibri"/>
              </a:rPr>
              <a:t>Dewey/ Gardner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indent="457200">
              <a:lnSpc>
                <a:spcPct val="100000"/>
              </a:lnSpc>
              <a:buClr>
                <a:srgbClr val="21b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All children are different and unique in their personalities, interests, academic abilities, and ways of thinking.  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indent="457200">
              <a:lnSpc>
                <a:spcPct val="100000"/>
              </a:lnSpc>
              <a:buClr>
                <a:srgbClr val="21b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It is important to allow students to study in a manner that reflects their own differences. 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indent="457200">
              <a:lnSpc>
                <a:spcPct val="100000"/>
              </a:lnSpc>
              <a:buClr>
                <a:srgbClr val="21b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With help of individual instruction, a teacher can help a child develop skills by educating and training. 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Calibri"/>
              </a:rPr>
              <a:t>Vygotsky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indent="457200">
              <a:lnSpc>
                <a:spcPct val="100000"/>
              </a:lnSpc>
              <a:buClr>
                <a:srgbClr val="21b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Instruction can begin with activation of prior knowledge.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indent="457200">
              <a:lnSpc>
                <a:spcPct val="100000"/>
              </a:lnSpc>
              <a:buClr>
                <a:srgbClr val="21b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A teacher implement assisted reading strategies, with differentiation for those who need it. 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indent="457200">
              <a:lnSpc>
                <a:spcPct val="100000"/>
              </a:lnSpc>
              <a:buClr>
                <a:srgbClr val="21b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A scaffolding method (additional instruction/ modeling/ guiding) - the way to gradually release of responsibility - from guided work to independent practice. 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tle 5"/>
          <p:cNvSpPr/>
          <p:nvPr/>
        </p:nvSpPr>
        <p:spPr>
          <a:xfrm>
            <a:off x="53352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atement of Hypothesis 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04920" y="123516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ssisted instruction given in forms of the repeated outloud reading and audio-assisted reading, three times per week for 45 minutes per session over two months period will improve both fluency and reading comprehension of a group of 10 students in a mainstream classroom, at the local public school X in Brooklyn, New York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0" name="Picture 3" descr="Image result for assisted reading"/>
          <p:cNvPicPr/>
          <p:nvPr/>
        </p:nvPicPr>
        <p:blipFill>
          <a:blip r:embed="rId1"/>
          <a:srcRect l="6159" t="0" r="15829" b="-1616"/>
          <a:stretch/>
        </p:blipFill>
        <p:spPr>
          <a:xfrm>
            <a:off x="2960640" y="3962520"/>
            <a:ext cx="2982960" cy="259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n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roup of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dents (6 boys and 4 girl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: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ears old,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rd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haracteristics: English Language Learners (ELL); 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tudents was evaluated for an IEP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s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, headphones, audio books, textbooks, consent forms, tests, and table of records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s and effects of the intervention will be measured in form of the series of tests: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-test, mid-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st-te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itle 5"/>
          <p:cNvSpPr/>
          <p:nvPr/>
        </p:nvSpPr>
        <p:spPr>
          <a:xfrm>
            <a:off x="53352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ethod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23:17:37Z</dcterms:created>
  <dc:creator>Molloy</dc:creator>
  <dc:description/>
  <dc:language>en-US</dc:language>
  <cp:lastModifiedBy>aksanasam</cp:lastModifiedBy>
  <dcterms:modified xsi:type="dcterms:W3CDTF">2016-11-29T15:33:39Z</dcterms:modified>
  <cp:revision>151</cp:revision>
  <dc:subject/>
  <dc:title>Gender Paradigms &amp; Theories   What’s in the R2 ??</dc:title>
</cp:coreProperties>
</file>